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09DB-9E9F-4FAF-AAA4-4D3434C6D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043B-AD11-459E-879F-84E5F1303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D7B5-DEE5-48C5-9F7F-2A890AE21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2D4B-0265-4140-891B-202137137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B9F62-4238-43D4-9D1C-49A017CA4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F2D38-62E9-4897-B9E9-059922EB0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983C6-2D68-4769-9B47-B6097DFF3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87A7C-8689-483F-B983-5ACF3F851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156E5-8CD1-4293-B1AD-5C6AAFD31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AF47A-3366-432E-8900-F3E6425F2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281DB-FA7B-44D5-A9DA-1023CC6FC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7802-D089-446B-8B41-4147789DC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8F670-C0F7-437C-8585-1062879E4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C9B1F-DA21-4C81-AE2A-BCE23F798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1A614-735F-4F58-B9EF-2698A6036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10A91-B53E-4029-B1F6-FE0572424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8E3D7-40EF-41BA-BA58-3EEBD0DC4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237D-6B70-455E-B289-33BD2BC4B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E66F-D1CD-435A-9D8D-17CA6C4CF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A2D5-9593-4628-8C0F-2334FA357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96B2-E35B-457F-A05D-90923A29B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0E44-AB22-449A-9A54-8662BD750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DD7F-5D00-42B4-B0F3-60C858BC1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9985-69CC-4983-9244-0C8F78C17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47608-0A27-4483-8E96-36D88D2C12CB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A748C-3CCC-4E66-BFB1-5181E4596ABC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8"/>
          <p:cNvSpPr/>
          <p:nvPr/>
        </p:nvSpPr>
        <p:spPr>
          <a:xfrm>
            <a:off x="811080" y="2286000"/>
            <a:ext cx="73152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41300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Footer Placeholder 3"/>
          <p:cNvSpPr/>
          <p:nvPr/>
        </p:nvSpPr>
        <p:spPr>
          <a:xfrm>
            <a:off x="304920" y="6213600"/>
            <a:ext cx="43383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Date Placeholder 6"/>
          <p:cNvSpPr/>
          <p:nvPr/>
        </p:nvSpPr>
        <p:spPr>
          <a:xfrm>
            <a:off x="5270400" y="6237360"/>
            <a:ext cx="304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811080"/>
            <a:ext cx="8064360" cy="1432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000" spc="-1" strike="noStrike">
                <a:solidFill>
                  <a:srgbClr val="ff0000"/>
                </a:solidFill>
                <a:latin typeface="Garamond"/>
                <a:cs typeface="PT Bold Heading"/>
              </a:rPr>
              <a:t>ت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cs typeface="PT Bold Heading"/>
              </a:rPr>
              <a:t>ه</a:t>
            </a:r>
            <a:r>
              <a:rPr b="1" lang="ar-KW" sz="2000" spc="-1" strike="noStrike">
                <a:solidFill>
                  <a:srgbClr val="009900"/>
                </a:solidFill>
                <a:latin typeface="Garamond"/>
                <a:cs typeface="PT Bold Heading"/>
              </a:rPr>
              <a:t>نئة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ea typeface="PT Bold Heading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يسر موقع كلمات وعبارات تهنئة الشعب الكويتي الكريم ، بمناسبة العيد الوطني لدولة الكويت وعيد التحرير وندعو الله أن يحفظ الكويت من كل مكروه .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79280" y="2349360"/>
            <a:ext cx="8280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06:42:19Z</dcterms:created>
  <dc:creator>Al-Ajmi DN (Dhari) TID</dc:creator>
  <dc:description/>
  <dc:language>en-US</dc:language>
  <cp:lastModifiedBy>abdallah</cp:lastModifiedBy>
  <dcterms:modified xsi:type="dcterms:W3CDTF">2018-02-05T14:40:19Z</dcterms:modified>
  <cp:revision>52</cp:revision>
  <dc:subject/>
  <dc:title>PowerPoint Presentation</dc:title>
</cp:coreProperties>
</file>